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6762-8512-40D0-8D03-911EA79105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DCF0-D8E4-495F-99CB-22EA8943ED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A1D25-A3A1-4FB7-90B7-6A5673FB1A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62180-F98B-4344-9CA7-674592BC11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176FC-4CDB-440B-A2F4-4E90AD4BFA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5A19C-326B-4983-B758-82DC0985F4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A0C97-327D-425B-9FD5-FF12C9FAD5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5CCB-6351-4CE8-BCA1-D7D415E83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2C63-25F9-4663-A6C1-EE0A430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B235-8666-4EA2-94F7-3DC99B0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3B39-F872-46E4-90A3-97D267814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C45D-1A0B-4301-A51F-D4B327D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AE9D-8D1D-4C3E-8A32-F0F0FB2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ABC0-3DF7-44CA-9422-FFFD0BF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C014-A1E5-41F4-97B0-4220870D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D0C1-A60A-4CB4-8FBD-540F4ED9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BF19-A54F-4F8B-81D3-92C23243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A3BD-A842-48F2-9D10-083100B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5AC0-E6FD-42C1-857E-02D3A47C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420302-DB7D-4A1A-9983-42C9C48C176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CTIVIDAD VOLCÁNIC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volcánica 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00000" y="1413000"/>
            <a:ext cx="7345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riesgo volcánico es la probabilidad de que en un lugar se produzcan daños humanos o económicos debido a la actividad de un volcá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riesgo depende de varios facto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actividad volcánica de la z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tipo de erup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presencia de pobl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iesgo volcá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volcánica 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8000" y="5291280"/>
            <a:ext cx="92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mapa se observa cómo las zonas de mayor actividad volcánica (puntos rojos) coinciden con los bordes de placa, y por tanto, coinciden, en numerosas ocasiones, con aquellas de mayor riesgo sísmico (puntos amarill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Zonas volcánicas d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5840640" cy="38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17:32:30Z</dcterms:modified>
  <cp:revision>47</cp:revision>
  <dc:subject/>
  <dc:title>Diapositiva 1</dc:title>
</cp:coreProperties>
</file>